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293FB-BC69-4D6F-91CB-1093A5107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F267B-351B-4AE3-B5E7-3E585A137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9A170-9926-4A81-AE35-F5239F8A4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3EA55-ADDD-409E-A602-ED9104EFE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EF7D4-E55E-44F3-B636-7CC16DF1B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E1788-1DCB-4BE3-ACDB-D1C150224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1A507-C6AD-44B9-A2C8-8A5FD731D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DECCC-C8BF-445E-B249-F063E604C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F10C2-08FF-4FF5-A2B2-5D83B6B5B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DD7B1-35E0-4875-95B2-95370DFC9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34363-4083-4406-A3CD-275B0CC7F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C0CA7-A049-4D24-98B7-7F98CF7A3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AD020-332F-4882-B555-3BBDC295F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DE426-1755-49BA-BEBF-83DE41DA8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EB2AD-B5B1-4032-ADA7-6743AC6B6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1F56C-4528-45AF-A603-CBF3E555C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45ADA1-FD64-4ABF-9BAF-8A8F222BD3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03A6B-C8B7-42EB-B479-B2E8913C4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45A0A-A94C-4C08-8D12-FF1BAF861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C451F-1FC5-4339-B377-F24DD37B2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52FDB-84E7-4209-A1CF-2E73D3BEB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A967F-6E67-42E2-ACED-77F7449E1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04110-FB99-473A-B925-29402A70B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5C90A-8D32-4992-B50E-97170EFC4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4CC4-034E-4F7E-AEB7-854BDB316A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6BB3-2480-4CA8-8374-090645FFE6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images.com/" TargetMode="External"/><Relationship Id="rId2" Type="http://schemas.openxmlformats.org/officeDocument/2006/relationships/hyperlink" Target="http://www.flickr.com/" TargetMode="External"/><Relationship Id="rId3" Type="http://schemas.openxmlformats.org/officeDocument/2006/relationships/hyperlink" Target="http://www.freeimages.co.uk/" TargetMode="External"/><Relationship Id="rId4" Type="http://schemas.openxmlformats.org/officeDocument/2006/relationships/hyperlink" Target="http://www.photo.net/" TargetMode="External"/><Relationship Id="rId5" Type="http://schemas.openxmlformats.org/officeDocument/2006/relationships/hyperlink" Target="http://www.imageafter.com/" TargetMode="External"/><Relationship Id="rId6" Type="http://schemas.openxmlformats.org/officeDocument/2006/relationships/hyperlink" Target="http://gimp-savvy.com/" TargetMode="Externa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freeplaymusic.com/" TargetMode="External"/><Relationship Id="rId2" Type="http://schemas.openxmlformats.org/officeDocument/2006/relationships/hyperlink" Target="http://ccmixter.org/" TargetMode="External"/><Relationship Id="rId3" Type="http://schemas.openxmlformats.org/officeDocument/2006/relationships/hyperlink" Target="http://www.findsounds.com/" TargetMode="External"/><Relationship Id="rId4" Type="http://schemas.openxmlformats.org/officeDocument/2006/relationships/hyperlink" Target="http://www.garageband.com/" TargetMode="External"/><Relationship Id="rId5" Type="http://schemas.openxmlformats.org/officeDocument/2006/relationships/hyperlink" Target="http://www.freeaudioclips.com/" TargetMode="Externa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Times New Roman"/>
              </a:rPr>
              <a:t>Photo Story</a:t>
            </a:r>
            <a:endParaRPr b="0" lang="en-US" sz="60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n-Service Tra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about Reading and English?</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stories w/ focus on reading with enthusias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Book Repor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y of a specific autho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try and adding visualization to what they think while reading the po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Negatives’</a:t>
            </a:r>
            <a:endParaRPr b="0" lang="en-US" sz="4200" spc="-1" strike="noStrike">
              <a:solidFill>
                <a:srgbClr val="330033"/>
              </a:solidFill>
              <a:latin typeface="Times New Roman"/>
            </a:endParaRPr>
          </a:p>
        </p:txBody>
      </p:sp>
      <p:sp>
        <p:nvSpPr>
          <p:cNvPr id="118" name="PlaceHolder 2"/>
          <p:cNvSpPr>
            <a:spLocks noGrp="1"/>
          </p:cNvSpPr>
          <p:nvPr>
            <p:ph/>
          </p:nvPr>
        </p:nvSpPr>
        <p:spPr>
          <a:xfrm>
            <a:off x="609480" y="1523520"/>
            <a:ext cx="8382240" cy="533412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o save all pictures from a camera or phone to a file on the computer, before applying it to Photo Stor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o save your project to a wmv., not a wp3, File to play on all computers, in case the computer does not have Photo Story downloaded to it.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o have a Tech. administrator or Nicole Hill download the program to your compute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take at least a week to do most likely, and you may need a second small activity and/or paper for students if you don’t have enough microphone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ill be planning involved to get it started but once you have done it, it is a great way to get students actively involved in their learn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y should I use Photo Story?</a:t>
            </a:r>
            <a:endParaRPr b="0" lang="en-US" sz="4200" spc="-1" strike="noStrike">
              <a:solidFill>
                <a:srgbClr val="330033"/>
              </a:solidFill>
              <a:latin typeface="Times New Roman"/>
            </a:endParaRPr>
          </a:p>
        </p:txBody>
      </p:sp>
      <p:sp>
        <p:nvSpPr>
          <p:cNvPr id="100"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ways to assess studen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creativ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means of technolog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for individual and/or group work</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an apply music, photos, text and transitions all at once to present a video-like present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be used at any grade level and with any cont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easy step-by-step appli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re reasons to use Photo Story:</a:t>
            </a:r>
            <a:endParaRPr b="0" lang="en-US" sz="4200" spc="-1" strike="noStrike">
              <a:solidFill>
                <a:srgbClr val="330033"/>
              </a:solidFill>
              <a:latin typeface="Times New Roman"/>
            </a:endParaRPr>
          </a:p>
        </p:txBody>
      </p:sp>
      <p:sp>
        <p:nvSpPr>
          <p:cNvPr id="102" name="PlaceHolder 2"/>
          <p:cNvSpPr>
            <a:spLocks noGrp="1"/>
          </p:cNvSpPr>
          <p:nvPr>
            <p:ph/>
          </p:nvPr>
        </p:nvSpPr>
        <p:spPr>
          <a:xfrm>
            <a:off x="533160" y="1600200"/>
            <a:ext cx="838188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visual mini-lessons and fun ways to teach objectiv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gital short stories or synops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ovie to introduce yourself to the clas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tudent timelines at the beginning of the year to introduce themselves to the clas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ovie to introduce your class on Parent Nigh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visual book repor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boo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ere can I get photos?</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1"/>
              </a:rPr>
              <a:t>http://www.googleimages.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2"/>
              </a:rPr>
              <a:t>http://www.flickr.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3"/>
              </a:rPr>
              <a:t>http://www.freeimages.co.uk/</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4"/>
              </a:rPr>
              <a:t>http://www.photo.ne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5"/>
              </a:rPr>
              <a:t>http://www.imageafter.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6"/>
              </a:rPr>
              <a:t>http://gimp-savvy.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Camera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era Phone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 pictures 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ere can I get Audio?</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1"/>
              </a:rPr>
              <a:t>http://www.freeplaymusic.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2"/>
              </a:rPr>
              <a:t>http://ccmixter.org/</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3"/>
              </a:rPr>
              <a:t>http://www.findsounds.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4"/>
              </a:rPr>
              <a:t>http://www.garageband.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5"/>
              </a:rPr>
              <a:t>http://www.freeaudioclips.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music.download.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torycorps.ne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oundamerica.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ebplaces.com/html/sounds.ht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ow about science?</a:t>
            </a:r>
            <a:endParaRPr b="0" lang="en-US" sz="4200" spc="-1" strike="noStrike">
              <a:solidFill>
                <a:srgbClr val="330033"/>
              </a:solidFill>
              <a:latin typeface="Times New Roman"/>
            </a:endParaRPr>
          </a:p>
        </p:txBody>
      </p:sp>
      <p:sp>
        <p:nvSpPr>
          <p:cNvPr id="108" name="PlaceHolder 2"/>
          <p:cNvSpPr>
            <a:spLocks noGrp="1"/>
          </p:cNvSpPr>
          <p:nvPr>
            <p:ph/>
          </p:nvPr>
        </p:nvSpPr>
        <p:spPr>
          <a:xfrm>
            <a:off x="533520" y="1600200"/>
            <a:ext cx="8610480" cy="510552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unar cycle: </a:t>
            </a:r>
            <a:r>
              <a:rPr b="0" lang="en-US" sz="1800" spc="-1" strike="noStrike">
                <a:solidFill>
                  <a:srgbClr val="000000"/>
                </a:solidFill>
                <a:latin typeface="Arial"/>
              </a:rPr>
              <a:t>students will have to search the internet and download pictures of the moon. Students can take their own pictures of the moon during a lunar cycle. After they take pictures, upload them to the computer and then to Photo Story. The students will add text, music, and narration to the photos describing which phase each photo is depicting.</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ecosystems: </a:t>
            </a:r>
            <a:r>
              <a:rPr b="0" lang="en-US" sz="1800" spc="-1" strike="noStrike">
                <a:solidFill>
                  <a:srgbClr val="000000"/>
                </a:solidFill>
                <a:latin typeface="Arial"/>
              </a:rPr>
              <a:t>have students pick an ecosystem and break it down into the important animals, plants, etc. that will be found in it and what parts of the world this ecosystem can be located.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 Parts:</a:t>
            </a:r>
            <a:r>
              <a:rPr b="0" lang="en-US" sz="1800" spc="-1" strike="noStrike">
                <a:solidFill>
                  <a:srgbClr val="000000"/>
                </a:solidFill>
                <a:latin typeface="Arial"/>
              </a:rPr>
              <a:t> Have students show each part and while that item is showing, students can describe each part by narrating it. </a:t>
            </a:r>
            <a:endParaRPr b="0" lang="en-US" sz="1800" spc="-1" strike="noStrike">
              <a:solidFill>
                <a:srgbClr val="000000"/>
              </a:solidFill>
              <a:latin typeface="Arial"/>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of Minerals</a:t>
            </a:r>
            <a:endParaRPr b="0" lang="en-US" sz="2800" spc="-1" strike="noStrike">
              <a:solidFill>
                <a:srgbClr val="000000"/>
              </a:solidFill>
              <a:latin typeface="Arial"/>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 System</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about Math?</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face Area of different rooms: http://www.youtube.com/watch?v=fgOCVAVOAo0</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ize math word problems or measurement problems, for example the arc of a circle: http://www.lessonplanspage.com/MathCIPEArcLengthAndAreaOfSectors1012.htm</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 Poems: Students have to write three math ideas in sentences and at least two more sentences using one of the five senses. The sentences have to have math in them (ex. Math is running a mile in 20 minutes or Math smells like a 30 lb turkey baking at 325° on Thanksgiving morning.)</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sentences were written students went to free photo sites to find pictures to go with their sentences. They then put the pictures and sentences into Photo Story and recorded themselves reading their poem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about Health?</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videos about specific topics that you cover: tobacco, drugs, alcohol, obesity, specific health problems (asthma, osteoporosis, joint strains, STDs, et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tudents research different countries and find what specific health problems are found there. Have them describe what the problem is, how they can be treated, and/or ideas of what they would do if given the opportunity to hel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about Social Studies?</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Photo Story on a specific country, a group of people, a specific person, the history of a battle, the culture of a group of people, et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ical Narrativ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0T15:07:50Z</dcterms:created>
  <dc:creator>jstover</dc:creator>
  <dc:description/>
  <dc:language>en-US</dc:language>
  <cp:lastModifiedBy>jstover</cp:lastModifiedBy>
  <dcterms:modified xsi:type="dcterms:W3CDTF">2009-08-19T14:28:45Z</dcterms:modified>
  <cp:revision>9</cp:revision>
  <dc:subject/>
  <dc:title>Photo Story</dc:title>
</cp:coreProperties>
</file>